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3240" y="-360"/>
            <a:ext cx="6629400" cy="497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244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11FE29-A719-49B6-8CC3-F152EB001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6244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33F859-7849-4701-8F97-E69264ECF640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400" y="0"/>
            <a:ext cx="6629400" cy="49719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2EC-1303-4FAA-8402-006DC759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B1F-B683-49B6-840E-770268D9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9DA-CF00-466C-9DFA-21C164F7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FE8-3B48-4135-85D4-37705E39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722C-FD08-48FC-8117-55D990C5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89D3-A2B8-4A8D-BA0E-191B608D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10F8-A39B-497D-8F3B-4DB956A8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0FD3-2B15-4643-BABA-7597FB12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956F-852D-456C-B56A-E8BEE7E0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8B60-24C9-4853-BBCE-AD3CC931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E400-8A33-462F-A94D-23AD1F8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FFE-A5C0-4CBB-A78A-162DC952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10FB-78D3-45A8-B6BC-C2C18B33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121E-D6CF-4659-BC24-0D65FF97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715B-9C0B-4FDA-8CB2-6CEFE5BD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27A8-4764-481B-A1E7-CF67923C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C3DC-49B1-48B1-AC3B-E8210CA0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0CEA1-1BE8-453F-B969-EA92BA1C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29930-7388-4E71-A02F-748682F0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E9FEA-E9C8-4174-BBC3-2D1AF9AE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E433A-95E8-4EC5-9F06-4C75839E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EE331-E06A-4F6C-8319-4EEBC3E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A9A-1EF9-4C78-86FB-D6FEAB22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CFFF8-E0A8-4A47-BBB2-DEAF8832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99E8A-B61D-42DD-97D0-E24EFF5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492C0-6A83-41A6-8BF1-F7192E9A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E1405-6965-4104-8506-3189CD5C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2C97C-9A3F-4593-9BBE-13B0D833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555D5-A7A3-418C-BCD5-79A05BD9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633BE-959E-4BF1-AC2A-B7C2802B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6018-9E10-4963-9A0B-0CBD89EA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AB9C0-2C09-443A-9F2F-7EA0CCE6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8478-2A3B-4FB1-A479-6F713976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90F-0329-4B02-8077-F8958B4C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1A0D-5235-4663-BCC8-462ECFD3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384C-3AF7-477E-85D6-2727F940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8928E-1E23-498A-803E-8E994093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29A3-628A-4925-8D1C-7DFE235A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6936D-08A2-4985-A098-37A39ECB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C34A-0DB9-4F51-9B7B-7D48DCD7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4EB9-4F8F-40D0-9084-F6E3DF4B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8C82-DD4A-4802-A848-A25DA053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431C-B8E2-457A-BE54-2060E0BE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B3A-8CB6-4514-8718-0330D89A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5AF-FDEA-4DAF-8117-2305C68A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F38-82EA-4F30-9DB7-23CD7D64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9EF-7787-419F-B911-E284E03A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6AF-951F-4E45-B7A0-CD3B7963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EDB0-1788-463E-B9FB-09DCCE76B8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65C3-4900-4154-8F89-EAC4FF20F0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BC8E-2F00-4702-A777-F75DB7071D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4C68-2B4F-4484-B0E7-F6351F9C98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kr/imgres?imgurl=http://www.fotosearch.co.kr/comp/UNC/UNC223/&#51312;&#51333;&#49324;-&#48708;&#54665;&#44592;-&#51204;&#53804;_~u15862409.jpg&amp;imgrefurl=http://www.fotosearch.co.kr/UNC223/u15862409/&amp;h=292&amp;w=300&amp;sz=19&amp;hl=ko&amp;start=12&amp;sig2=_o6yPT5bJ10VmXn48xKJ_A&amp;um=1&amp;usg=__Xxhac6ETRF8Y7TJ9DQzzqdMdeL4=&amp;tbnid=fDilF7lN5NKFsM:&amp;tbnh=113&amp;tbnw=116&amp;ei=q5bDSNzwBouw6wPt5sDtBg&amp;prev=/images%3Fq%3D%25EB%25B9%2584%25ED%2596%2589%25EA%25B8%25B0%26um%3D1%26complete%3D1%26hl%3Dko%26lr%3D%26newwindow%3D1%26sa%3DN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ffff"/>
                </a:solidFill>
                <a:latin typeface="Trebuchet MS"/>
              </a:rPr>
              <a:t>행위자</a:t>
            </a: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0" lang="ko-KR" sz="4800" spc="-1" strike="noStrike">
                <a:solidFill>
                  <a:srgbClr val="ffffff"/>
                </a:solidFill>
                <a:latin typeface="Trebuchet MS"/>
              </a:rPr>
              <a:t>연결망 이론</a:t>
            </a:r>
            <a:br>
              <a:rPr sz="4800"/>
            </a:b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Actor-Network Theory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4900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collective 1"/>
          <p:cNvPicPr/>
          <p:nvPr/>
        </p:nvPicPr>
        <p:blipFill>
          <a:blip r:embed="rId1"/>
          <a:stretch/>
        </p:blipFill>
        <p:spPr>
          <a:xfrm>
            <a:off x="714240" y="3786120"/>
            <a:ext cx="7920000" cy="2800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gunman"/>
          <p:cNvPicPr/>
          <p:nvPr/>
        </p:nvPicPr>
        <p:blipFill>
          <a:blip r:embed="rId2"/>
          <a:stretch/>
        </p:blipFill>
        <p:spPr>
          <a:xfrm>
            <a:off x="4000680" y="2143080"/>
            <a:ext cx="2143080" cy="14781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목표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번역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혹은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교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’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 a Gun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collective 2"/>
          <p:cNvPicPr/>
          <p:nvPr/>
        </p:nvPicPr>
        <p:blipFill>
          <a:blip r:embed="rId1"/>
          <a:stretch/>
        </p:blipFill>
        <p:spPr>
          <a:xfrm>
            <a:off x="928800" y="2500200"/>
            <a:ext cx="7146720" cy="3581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%EC%A1%B0%EC%A2%85%EC%82%AC-%EB%B9%84%ED%96%89%EA%B8%B0-%EC%A0%84%ED%88%AC_~u15862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72160" y="857160"/>
            <a:ext cx="1944720" cy="18939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복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collective 3"/>
          <p:cNvPicPr/>
          <p:nvPr/>
        </p:nvPicPr>
        <p:blipFill>
          <a:blip r:embed="rId1"/>
          <a:stretch/>
        </p:blipFill>
        <p:spPr>
          <a:xfrm>
            <a:off x="4071960" y="2143080"/>
            <a:ext cx="4714920" cy="45943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접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혹은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가역적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)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블랙박스화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2249640"/>
            <a:ext cx="37576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자동차나 컴퓨터는 수많은 부품들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사람들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기계들이 오랜 시간의 노력 끝에 결합되어 만들어진 네트워크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우리에겐 하나의 대상으로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접혀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만들어진 블랙박스로 보이게 됨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857160" y="4214880"/>
            <a:ext cx="32860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rcRect l="5039" t="20921" r="5039" b="13947"/>
          <a:stretch/>
        </p:blipFill>
        <p:spPr>
          <a:xfrm>
            <a:off x="3000240" y="2143080"/>
            <a:ext cx="3711600" cy="1943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ollective 4"/>
          <p:cNvPicPr/>
          <p:nvPr/>
        </p:nvPicPr>
        <p:blipFill>
          <a:blip r:embed="rId2"/>
          <a:stretch/>
        </p:blipFill>
        <p:spPr>
          <a:xfrm>
            <a:off x="571680" y="3929040"/>
            <a:ext cx="7848360" cy="270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4. 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상징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사물 경계교차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혹은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직권위임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’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스캔"/>
          <p:cNvPicPr/>
          <p:nvPr/>
        </p:nvPicPr>
        <p:blipFill>
          <a:blip r:embed="rId1"/>
          <a:stretch/>
        </p:blipFill>
        <p:spPr>
          <a:xfrm>
            <a:off x="214200" y="2286000"/>
            <a:ext cx="8353440" cy="42814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직권위임의 예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속방지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기술혁신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인간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비인간 결합 변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142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기술적 변화는 아래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가지 중 적어도 한 가지 이상 포함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새로운 존재를 더함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행위자를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nti-program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에서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rogram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으로 이동시킴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행위자에게 새로운 특성을 부여함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존재들 사이에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역할의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)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치환을 가져오는 변형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행위자들의 새로운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ckaging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이 생김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변화에 적응한 일상적 활동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shaping tech"/>
          <p:cNvPicPr/>
          <p:nvPr/>
        </p:nvPicPr>
        <p:blipFill>
          <a:blip r:embed="rId1"/>
          <a:stretch/>
        </p:blipFill>
        <p:spPr>
          <a:xfrm>
            <a:off x="214200" y="2143080"/>
            <a:ext cx="7786800" cy="36561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프로그램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프로그램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60717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기술은 인간 행위자의 반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프로그램에 맞서서 프로그램을 가능케 함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라투어의 비판 대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8329680" cy="35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기술이 인간과 결합하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서로의 특성을 교환하여 집합체를 이룬다는 것을 무시한 관점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Homo Faber: ‘man, the maker’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도구를 수동적으로 간주 </a:t>
            </a:r>
            <a:r>
              <a:rPr b="0" lang="en-US" sz="20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인간이 도구를 든 순간 바뀜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기술의 사회적 구성론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사회를 주어진 것으로 생각 </a:t>
            </a:r>
            <a:r>
              <a:rPr b="0" lang="en-US" sz="20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사회 자체가 인간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인간 집합체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기술결정론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기술에서 인간을 떼어내고 생각 </a:t>
            </a:r>
            <a:r>
              <a:rPr b="0" lang="en-US" sz="20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인간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인간 집합체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옛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도구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-(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현대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기계의 이분법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도구는 인간이 이용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기계는 인간을 지배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도구든 기계든 인간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인간 관계는 본질상 변함이 없음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51PSYTY0E1L"/>
          <p:cNvPicPr/>
          <p:nvPr/>
        </p:nvPicPr>
        <p:blipFill>
          <a:blip r:embed="rId1"/>
          <a:stretch/>
        </p:blipFill>
        <p:spPr>
          <a:xfrm>
            <a:off x="6983280" y="414324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기술에 대한 전통적인 논의의 문제점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249640"/>
            <a:ext cx="6686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통적인 관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 관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용 또는 통제의 관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 관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보다 훨씬 복잡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라투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 관계가 이용 또는 통제의 관계보다 훨씬 복잡할 수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RAMIS or The Love of Technolog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행위자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연결망 이론에 대한 비판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비인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의 목소리는 누가 부여하는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주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객체의 구별을 도리어 강화하는 것 아닌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인간에게 책임을 면제해주는 이론이 아닌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라투어의 반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과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2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과 같은 비인간의 목소리는 기술과 특성을 교환한 인간 행위자가 대변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3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비인간이 인간에게 부과하는 강제성을 인식할 때 현대사회의 윤리 문제를 제대로 다룰 수 있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목적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인간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/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도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기술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의 이분법은 더 이상 의미가 없음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규범성의 문제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2"/>
          <p:cNvSpPr/>
          <p:nvPr/>
        </p:nvSpPr>
        <p:spPr>
          <a:xfrm>
            <a:off x="928800" y="1785960"/>
            <a:ext cx="2592360" cy="244800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ociety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5464080" y="1859040"/>
            <a:ext cx="2592360" cy="244800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echnology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32080" y="1282680"/>
            <a:ext cx="2521080" cy="865080"/>
          </a:xfrm>
          <a:prstGeom prst="pi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AutoShape 8"/>
          <p:cNvSpPr/>
          <p:nvPr/>
        </p:nvSpPr>
        <p:spPr>
          <a:xfrm rot="10800000">
            <a:off x="3304800" y="4017600"/>
            <a:ext cx="2521080" cy="865080"/>
          </a:xfrm>
          <a:prstGeom prst="pi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3433320" y="4954680"/>
            <a:ext cx="218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chnological Determinism: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사회과학자들이 믿고 있는 것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379320" y="706320"/>
            <a:ext cx="331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cial Construction of Technology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석적 유연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구성주의 사회학자들의 생각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179280" y="189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557172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Georgia"/>
              </a:rPr>
              <a:t>문제점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기술은 사회를 형성할 정도로 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강고한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것이면서 사회에 의해 형성될 정도로 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말랑말랑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해야 함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기술에 의해서 끊임없이 만들어지고 있는 사회가 기술에 자신을 투영해서 기술을 형성함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행위자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연결망 이론의 정치적 의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ince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란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기술을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oblematize, interest, enrol, mobilize, displace, black-box, punctualize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하는 사람으로서 기술을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folding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함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기술사회에서 민주주의란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이러한 기술을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unfolding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하면서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ince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를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he people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로 대체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구체적인 방법은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의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ANT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에 의하면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ngineer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와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olitician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의 차이는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엔지니어만이 고유한 방식으로 비인간 행위자와 연결망 형성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현대사회에서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ngineer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가 가장 강력한 권력 집단인가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아니라면 왜 그러한가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latour"/>
          <p:cNvPicPr/>
          <p:nvPr/>
        </p:nvPicPr>
        <p:blipFill>
          <a:blip r:embed="rId1"/>
          <a:stretch/>
        </p:blipFill>
        <p:spPr>
          <a:xfrm>
            <a:off x="5286240" y="3857760"/>
            <a:ext cx="3384720" cy="283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Latour"/>
          <p:cNvPicPr/>
          <p:nvPr/>
        </p:nvPicPr>
        <p:blipFill>
          <a:blip r:embed="rId2"/>
          <a:stretch/>
        </p:blipFill>
        <p:spPr>
          <a:xfrm>
            <a:off x="6000840" y="1000080"/>
            <a:ext cx="2173320" cy="2766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라투어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(Bruno Latour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14360"/>
            <a:ext cx="48290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기술과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같은 비인간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nonhuman)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을 행위자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or)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로서 인간과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대칭적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으로 볼 것을 제안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기술은 수동적인 존재가 아니라 어느 정도의 능동성을 갖고 있음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즉 인간의 행위를 바꿀 수 있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Georgia"/>
              </a:rPr>
              <a:t>행위자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-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</a:rPr>
              <a:t>연결망 이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사회</a:t>
            </a: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에 대한 재해석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사회 </a:t>
            </a: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= </a:t>
            </a: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인간</a:t>
            </a: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비인간의 연결 집합체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연결망의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건설과정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: transl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blematiz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해결해야 할 문제 정의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방법 제안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자신을 </a:t>
            </a:r>
            <a:r>
              <a:rPr b="1" lang="ko-KR" sz="1800" spc="-1" strike="noStrike">
                <a:solidFill>
                  <a:srgbClr val="ff0000"/>
                </a:solidFill>
                <a:latin typeface="Georgia"/>
              </a:rPr>
              <a:t>의무통과점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으로 만듦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ressement (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관심을 사이에 개입시키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다른 행위자들을 경쟁 연결망에서 고립시켜 내 편으로 만듦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. </a:t>
            </a:r>
            <a:br>
              <a:rPr sz="1800"/>
            </a:b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즉 동맹 형성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rollment (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등록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역할부여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관심끌기를 영구화하는 다양한 협상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힘겨루기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책략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거래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bilization (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동원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소수의 행위자가 전체를 대표하는 정당성을 획득하는 과정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Georgia"/>
              </a:rPr>
              <a:t>의무통과점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OPP (Obligatory Passage Point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Displacement :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구체</a:t>
            </a:r>
            <a:r>
              <a:rPr b="0" lang="en-US" sz="1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추상적인 수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그래프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…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Black-boxing and Black-box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왜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anslation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2801880" y="3041640"/>
            <a:ext cx="71640" cy="1429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2225520" y="4049640"/>
            <a:ext cx="73080" cy="7164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3594240" y="5057640"/>
            <a:ext cx="144360" cy="14292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4097160" y="4121280"/>
            <a:ext cx="144720" cy="712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4602240" y="3112920"/>
            <a:ext cx="71280" cy="7164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210040" y="2695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hing W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629720" y="413532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hing Y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331800" y="521496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stitution X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286160" y="406404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son B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4651920" y="30560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son C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Line 13"/>
          <p:cNvSpPr/>
          <p:nvPr/>
        </p:nvSpPr>
        <p:spPr>
          <a:xfrm flipH="1">
            <a:off x="2225160" y="311292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2225520" y="4121280"/>
            <a:ext cx="1440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225520" y="4121280"/>
            <a:ext cx="19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이질적인 행위자 연결망 건설 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1" name="AutoShape 2"/>
          <p:cNvCxnSpPr/>
          <p:nvPr/>
        </p:nvCxnSpPr>
        <p:spPr>
          <a:xfrm>
            <a:off x="1936800" y="2394000"/>
            <a:ext cx="4393440" cy="1800720"/>
          </a:xfrm>
          <a:prstGeom prst="curvedConnector5">
            <a:avLst>
              <a:gd name="adj1" fmla="val 49979"/>
              <a:gd name="adj2" fmla="val 49990"/>
              <a:gd name="adj3" fmla="val 49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AutoShape 3"/>
          <p:cNvCxnSpPr/>
          <p:nvPr/>
        </p:nvCxnSpPr>
        <p:spPr>
          <a:xfrm>
            <a:off x="2079360" y="3689280"/>
            <a:ext cx="4393080" cy="2232720"/>
          </a:xfrm>
          <a:prstGeom prst="curvedConnector5">
            <a:avLst>
              <a:gd name="adj1" fmla="val 49975"/>
              <a:gd name="adj2" fmla="val 49991"/>
              <a:gd name="adj3" fmla="val 499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Line 4"/>
          <p:cNvSpPr/>
          <p:nvPr/>
        </p:nvSpPr>
        <p:spPr>
          <a:xfrm flipH="1">
            <a:off x="2368440" y="2178000"/>
            <a:ext cx="1944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54" name="AutoShape 5"/>
          <p:cNvCxnSpPr/>
          <p:nvPr/>
        </p:nvCxnSpPr>
        <p:spPr>
          <a:xfrm flipV="1" rot="10800000">
            <a:off x="3087000" y="2896200"/>
            <a:ext cx="3601080" cy="3097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Oval 6"/>
          <p:cNvSpPr/>
          <p:nvPr/>
        </p:nvSpPr>
        <p:spPr>
          <a:xfrm>
            <a:off x="3808440" y="2825640"/>
            <a:ext cx="71280" cy="14292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976840" y="2790720"/>
            <a:ext cx="71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학기술자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2008080" y="4552920"/>
            <a:ext cx="3672000" cy="2305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3160800" y="3833640"/>
            <a:ext cx="71280" cy="1429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637360" y="3747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PP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4960800" y="3976560"/>
            <a:ext cx="71640" cy="73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Oval 12"/>
          <p:cNvSpPr/>
          <p:nvPr/>
        </p:nvSpPr>
        <p:spPr>
          <a:xfrm>
            <a:off x="4456080" y="5273640"/>
            <a:ext cx="144360" cy="7164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2513160" y="4842000"/>
            <a:ext cx="71280" cy="712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3879720" y="5705640"/>
            <a:ext cx="144720" cy="14436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3484800" y="59594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stitution X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574160" y="516744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son B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4867920" y="4016520"/>
            <a:ext cx="73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son C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1772640" y="473544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hing Y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3232080" y="3976560"/>
            <a:ext cx="720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3232080" y="3905280"/>
            <a:ext cx="17686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Line 21"/>
          <p:cNvSpPr/>
          <p:nvPr/>
        </p:nvSpPr>
        <p:spPr>
          <a:xfrm flipH="1">
            <a:off x="3231720" y="2968560"/>
            <a:ext cx="576360" cy="86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 Box 23"/>
          <p:cNvSpPr/>
          <p:nvPr/>
        </p:nvSpPr>
        <p:spPr>
          <a:xfrm>
            <a:off x="1996920" y="379872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hing W)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이질적인 행위자 연결망 건설 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10"/>
          <p:cNvPicPr/>
          <p:nvPr/>
        </p:nvPicPr>
        <p:blipFill>
          <a:blip r:embed="rId1"/>
          <a:stretch/>
        </p:blipFill>
        <p:spPr>
          <a:xfrm>
            <a:off x="6500880" y="1143000"/>
            <a:ext cx="2368440" cy="27367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비인간 행위자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80438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문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개폐기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door-closer)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의 예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인간에게 특정행동을 유발시킴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3548a"/>
                </a:solidFill>
                <a:latin typeface="Georgia"/>
              </a:rPr>
              <a:t>Prescription, delegation</a:t>
            </a:r>
            <a:endParaRPr b="0" lang="en-US" sz="19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이러한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의미에서 비인간도 행위자가 될 수 있음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인간행위자들마다의 권력 차이는 왜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원래 모두 동등한 행위자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누가 더 강력한 연결망을 구축했는가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?”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에 의해 권력 차이 발생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거대행위자란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수많은 블랙박스 위에 앉아 있는 미소 행위자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과학기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비인간 행위자를 설득하고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움직이고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계산하고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예측 가능한 것으로 만듦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이것이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echnoscience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가 현대 사회의 권력의 핵심인 이유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leviathan"/>
          <p:cNvPicPr/>
          <p:nvPr/>
        </p:nvPicPr>
        <p:blipFill>
          <a:blip r:embed="rId1"/>
          <a:stretch/>
        </p:blipFill>
        <p:spPr>
          <a:xfrm>
            <a:off x="714240" y="2286000"/>
            <a:ext cx="4764240" cy="37861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“</a:t>
            </a: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리바이어던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”</a:t>
            </a: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은 어떻게 만들어지는가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500440" y="3500280"/>
            <a:ext cx="32144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홉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인간들 간의 계약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힘을 조금씩 이양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라투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계약만으로는 부족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무엇이 더 필요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기술적 매개의 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4</a:t>
            </a: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가지 유형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technical mediation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42892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표의 번역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혹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교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복합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omposi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과 공간의 접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혹은 가역적 블랙박스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상징과 사물의 경계 교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혹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직권위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두 인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인간 잡종의 형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10-20T07:05:40Z</dcterms:modified>
  <cp:revision>419</cp:revision>
  <dc:subject/>
  <dc:title>중세 유럽의 과학</dc:title>
</cp:coreProperties>
</file>